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E196-F22B-49DB-8763-B355C2640A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углов треугольник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0C28-CAC4-4866-99C7-8D40AA1668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треугольнике АВС угол А равен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другие два уг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дин острый, другой может быть прямым или туп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ба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огут быть как острыми, так и тупыми или пря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5AAF-452C-4036-9189-9E326B757B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треугольнике АВС угол В – тупой, при этом другие два угла могут б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лько остр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стрыми и туп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стрыми 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F124-0B10-4798-8E75-E0DDACAED7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туп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остры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упой и прям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тупой и острый уг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8760-6DA2-422E-B787-E64082D82D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остр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 углы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дин угол туп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C1B2-EAE5-448D-924A-DC1A8276C1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ям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туп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ва прямых уг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1F74-E0CD-4F6D-81AA-824B908331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вести понятие остроугольного, прямоугольного, тупоугольного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6712-84DD-4984-89F7-D23D9E0D75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п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тупой, то треугольник называется туп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9867-5AA0-4988-BB5F-8672B04118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прямой, 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C8DB-610B-4E2F-9F5C-D6C460E147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а треугольника, лежащая против прямого угла называе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две другие называю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ате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CAD4-7840-4CFD-AE93-E2A7534EA7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три угла треугольника острые, то треугольник называется остр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5EC7-3884-4A00-AE3A-B4C565E0B6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из теоремы о сумме углов тре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кажите, что треугольник имеет хотя бы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D89E-B8F9-4274-9C07-EC291B803C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E359-C9E7-4C07-B5DF-2ECEB396CD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B13-328B-4EA4-9809-1704AC3465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B6F-9847-438C-80E8-ACE219E8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80E-0C77-45BA-A104-58DCC132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697-B6EF-4695-9EEB-9805B183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243-516B-44C6-BA9E-74D497E6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82CE-22B3-4B61-A4CA-107668F6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D2E0-04C9-4769-ACFF-A2BC69ED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8CB5-79DF-4D0B-B5B4-B99CA25A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F1AA-50D9-4B07-B736-9C151BC2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06D6-F3A8-4307-BF7F-8621B722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8050-468C-42D8-9E36-3AEC584C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0A2A-52C4-4F39-9E5C-CB89B431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D19B-562F-4D28-8563-92A316F0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215E-1D42-4299-B3D3-2626EF00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DD1D-DC23-423C-A6A3-3006EAF1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5D12-A00C-4E71-B25B-C7D1A5FB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128F-C8BF-4225-A13D-90FD1D24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0664-AC96-4F26-936E-2D3EC57C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83F-7759-49C4-8232-BE189E73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1EF-5510-491C-BA50-5661A104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4E9-5898-4E41-AA63-5A0BB680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24E-897E-4567-9587-D295E5C4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5F0-03F4-4A7E-AF20-2B82524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7B7-7A7D-4ADB-98DE-6C4B0719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4D0-4772-4FE0-A150-68FD24B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AD39-9BAB-4D88-B02B-58E671CAB4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A0E6-433F-4D03-AA3B-5D2A22E3E6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1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